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D6804-2C37-43B8-99BC-42D0FB31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81D28-1B29-4DD7-8DFD-DE9719FD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0D019-80EE-4015-8D96-525328DE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31BF2-36FA-4B3D-8DD8-46D4ECF3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C2A6C-2446-446F-9221-53F3FD5D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077B2-71C2-4329-A8E8-C8C104F9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90576-6803-40FC-86F0-BF6251BD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998C5-1D7C-4C39-AEEA-5E6194A6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C8922-1829-4410-B493-8435D800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96F27-9EA9-49F1-B985-15E43307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F43B9-CE16-4A27-872C-5B4DC7AA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61EF5-7FFD-48A8-AA76-DD3C5579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2680" y="6476760"/>
            <a:ext cx="5562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D370-1610-437D-B47E-C6851F390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and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429000" y="2438280"/>
            <a:ext cx="5486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Softwar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of Progra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AW logo"/>
          <p:cNvPicPr/>
          <p:nvPr/>
        </p:nvPicPr>
        <p:blipFill>
          <a:blip r:embed="rId1"/>
          <a:stretch/>
        </p:blipFill>
        <p:spPr>
          <a:xfrm>
            <a:off x="0" y="6064200"/>
            <a:ext cx="1060560" cy="7938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181480" y="483696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Lew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Lof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Untitled.png"/>
          <p:cNvPicPr/>
          <p:nvPr/>
        </p:nvPicPr>
        <p:blipFill>
          <a:blip r:embed="rId2"/>
          <a:stretch/>
        </p:blipFill>
        <p:spPr>
          <a:xfrm>
            <a:off x="304920" y="1828800"/>
            <a:ext cx="3047760" cy="3809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609480" y="5716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Fact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he string concatenation operator and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utomatic conversion of an integer to a st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various fa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rings can be concatenated into one long 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We present the following facts for your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"extracurricular edification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string can contain numeric dig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Letters in the Hawaiian alphabet: 12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609480" y="1849320"/>
            <a:ext cx="7910640" cy="261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numeric value can be concatenated to a 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Dialing code for Antarctica: " + 67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ear in which Leonardo da Vinci invented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"the parachute: " + 151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peed of ketchup: " + 40 + " km per yea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609480" y="1849320"/>
            <a:ext cx="7910640" cy="261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numeric value can be concatenated to a 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Dialing code for Antarctica: " + 67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ear in which Leonardo da Vinci invented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"the parachute: " + 151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peed of ketchup: " + 40 + " km per yea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748800" y="1488960"/>
            <a:ext cx="7620840" cy="2071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e present the following facts for your extracurricular edific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tters in the Hawaiian alphabet: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aling code for Antarctica: 6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ear in which Leonardo da Vinci invented the parachute: 15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of ketchup: 40 km per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ing Concate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+ operator is also used for arithmetic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ction that it performs depends on the type of the information on which it ope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operands are strings, or if one is a string and one is a number, it performs string concate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operands are numeric, it adds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+ operator is evaluated left to right, but parentheses can be used to force the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.j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609480" y="81108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dditio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difference between the addition and 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catenation operato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catenates and adds two numbers and prints th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24 and 45 concatenated: " + 24 + 4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24 and 45 added: " + (24 + 45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609480" y="81108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dditio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difference between the addition and 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catenation operato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catenates and adds two numbers and prints th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24 and 45 concatenated: " + 24 + 4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24 and 45 added: " + (24 + 45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2156040" y="609480"/>
            <a:ext cx="4633560" cy="1402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4 and 45 concatenated: 24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4 and 45 added: 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304920" y="120636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utput is produced by the follow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951840" y="1981080"/>
            <a:ext cx="73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X: " + 2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: " + (15 + 50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Z: " + 300 + 5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04920" y="120636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utput is produced by the follow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951840" y="1981080"/>
            <a:ext cx="731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X: " + 2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: " + (15 + 50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Z: " + 300 + 5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3528360" y="3733920"/>
            <a:ext cx="16437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: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: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Z: 30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ape Seq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we wanted to print the quote charac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line would confuse the compiler because it would interpret the second quote as the end of th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 ("I said "Hello" to you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cape sequ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eries of characters that represents a special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scape sequence begins with a backslash character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 ("I said \"Hello\" to you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ape Seq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Java escape seque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2042280" y="1981080"/>
            <a:ext cx="4613040" cy="2755440"/>
            <a:chOff x="2042280" y="1981080"/>
            <a:chExt cx="4613040" cy="2755440"/>
          </a:xfrm>
        </p:grpSpPr>
        <p:sp>
          <p:nvSpPr>
            <p:cNvPr id="150" name="Text Box 6"/>
            <p:cNvSpPr/>
            <p:nvPr/>
          </p:nvSpPr>
          <p:spPr>
            <a:xfrm>
              <a:off x="2042280" y="1981080"/>
              <a:ext cx="2334240" cy="27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Escape Sequ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Courier New"/>
                </a:rPr>
                <a:t>\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Courier New"/>
                </a:rPr>
                <a:t>\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Courier New"/>
                </a:rPr>
                <a:t>\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Courier New"/>
                </a:rPr>
                <a:t>\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Courier New"/>
                </a:rPr>
                <a:t>\"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Courier New"/>
                </a:rPr>
                <a:t>\'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Courier New"/>
                </a:rPr>
                <a:t>\\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7"/>
            <p:cNvSpPr/>
            <p:nvPr/>
          </p:nvSpPr>
          <p:spPr>
            <a:xfrm>
              <a:off x="4520880" y="1981080"/>
              <a:ext cx="2134440" cy="27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Mea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backspa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ta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new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carriage retu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double quo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single quo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backsla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Footer Placeholder 8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04920" y="4952880"/>
            <a:ext cx="845820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oses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and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explore some other fundamental programming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focuse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laration and use of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ons and operator prece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ing input from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609480" y="81108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os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escape sequ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a poem (of sorts) on multiple li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oses are red,\n\tViolets are blue,\n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Sugar is sweet,\n\tBut I have \"commitment issues\",\n\t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So I'd rather just be friends\n\tAt this point in our 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relationship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609480" y="81108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os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escape sequ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a poem (of sorts) on multiple li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oses are red,\n\tViolets are blue,\n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Sugar is sweet,\n\tBut I have \"commitment issues\",\n\t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So I'd rather just be friends\n\tAt this point in our 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relationship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1479600" y="457200"/>
            <a:ext cx="6462360" cy="2622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oses are re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iolets are blu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gar is swe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ut I have "commitment issues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o I'd rather just be fri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t this point in our relation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304920" y="12063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sing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that produces the following 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1855080" y="2362320"/>
            <a:ext cx="528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Thank you all for coming to my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night," he said mysteri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304920" y="120636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sing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that produces the following 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1855080" y="2362320"/>
            <a:ext cx="528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Thank you all for coming to my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night," he said mysteri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347760" y="3809880"/>
            <a:ext cx="841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\"Thank you all for "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coming to my home\ntonight,\" he said "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mysteriously.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669400" y="121932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1828800" y="18493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86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name for a location in memory that holds 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riable declar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s the variable's name and the type of information that it will 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847240" y="4294080"/>
            <a:ext cx="383832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tot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, temp, resu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134360" y="5318280"/>
            <a:ext cx="67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Multiple variables can be created in one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1622160" y="3381480"/>
            <a:ext cx="1470240" cy="836640"/>
            <a:chOff x="1622160" y="3381480"/>
            <a:chExt cx="1470240" cy="836640"/>
          </a:xfrm>
        </p:grpSpPr>
        <p:sp>
          <p:nvSpPr>
            <p:cNvPr id="177" name="Text Box 8"/>
            <p:cNvSpPr/>
            <p:nvPr/>
          </p:nvSpPr>
          <p:spPr>
            <a:xfrm>
              <a:off x="1622160" y="338148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data typ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2863800" y="3760920"/>
              <a:ext cx="22860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0"/>
          <p:cNvGrpSpPr/>
          <p:nvPr/>
        </p:nvGrpSpPr>
        <p:grpSpPr>
          <a:xfrm>
            <a:off x="4001400" y="3338640"/>
            <a:ext cx="2004840" cy="836640"/>
            <a:chOff x="4001400" y="3338640"/>
            <a:chExt cx="2004840" cy="836640"/>
          </a:xfrm>
        </p:grpSpPr>
        <p:sp>
          <p:nvSpPr>
            <p:cNvPr id="180" name="Text Box 11"/>
            <p:cNvSpPr/>
            <p:nvPr/>
          </p:nvSpPr>
          <p:spPr>
            <a:xfrm>
              <a:off x="4001400" y="3338640"/>
              <a:ext cx="20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variable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2"/>
            <p:cNvSpPr/>
            <p:nvPr/>
          </p:nvSpPr>
          <p:spPr>
            <a:xfrm flipH="1">
              <a:off x="4063680" y="3718080"/>
              <a:ext cx="15228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Footer Placeholder 1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 Initi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3059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able can be given an initial value in the 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287800" y="2422440"/>
            <a:ext cx="399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ase = 32, max = 14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7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28600" y="3505320"/>
            <a:ext cx="83059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variable is referenced in a program, its current value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ianoKeys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609480" y="811080"/>
            <a:ext cx="791064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ianoKey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declaration, initialization, and use of 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nteger var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ianoK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the number of keys on a pi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s = 8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piano has " + keys + " key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609480" y="811080"/>
            <a:ext cx="791064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ianoKey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declaration, initialization, and use of 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nteger var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ianoK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the number of keys on a pi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keys = 88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piano has " + keys + " key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2836080" y="533520"/>
            <a:ext cx="3414600" cy="109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piano has 88 ke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13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ignment stat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s the value of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operator i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430440" y="28954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tal = 5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5"/>
          <p:cNvGrpSpPr/>
          <p:nvPr/>
        </p:nvGrpSpPr>
        <p:grpSpPr>
          <a:xfrm>
            <a:off x="3886200" y="3352320"/>
            <a:ext cx="990720" cy="305280"/>
            <a:chOff x="3886200" y="3352320"/>
            <a:chExt cx="990720" cy="305280"/>
          </a:xfrm>
        </p:grpSpPr>
        <p:sp>
          <p:nvSpPr>
            <p:cNvPr id="197" name="Line 6"/>
            <p:cNvSpPr/>
            <p:nvPr/>
          </p:nvSpPr>
          <p:spPr>
            <a:xfrm>
              <a:off x="4876920" y="3352680"/>
              <a:ext cx="0" cy="3049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 flipH="1">
              <a:off x="3886200" y="3657600"/>
              <a:ext cx="990720" cy="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8"/>
            <p:cNvSpPr/>
            <p:nvPr/>
          </p:nvSpPr>
          <p:spPr>
            <a:xfrm flipV="1">
              <a:off x="3886200" y="3352320"/>
              <a:ext cx="0" cy="304920"/>
            </a:xfrm>
            <a:prstGeom prst="line">
              <a:avLst/>
            </a:prstGeom>
            <a:ln w="31680">
              <a:solidFill>
                <a:srgbClr val="ff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Footer Placeholder 11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52280" y="3962520"/>
            <a:ext cx="85345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that wa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verwri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only assign a value to a variable that is consistent with the variable's declared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ometry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669400" y="121932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1828800" y="12952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609480" y="8110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eometr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assignment statement to change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value stored in a var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the number of sides of several geometric shap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des = 7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ation with initi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heptagon has " + sides + " sid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des = 10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ment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decagon has " + sides + " sid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des = 1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dodecagon has " + sides + " sid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609480" y="8110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eometr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n assignment statement to change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value stored in a var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the number of sides of several geometric shap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des = 7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claration with initi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heptagon has " + sides + " sid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des = 10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ment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decagon has " + sides + " sid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des = 1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dodecagon has " + sides + " sid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432880" y="457200"/>
            <a:ext cx="4176360" cy="1707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heptagon has 7 s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decagon has 10 s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dodecagon has 12 s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t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identifier that is similar to a variable except that it holds the same value during its entire 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name implies, it is constant, not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iler will issue an error if you try to change the value of a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ava, we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ifier to declare a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al int MIN_HEIGHT = 6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s are useful for three important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they give meaning to otherwise unclear liter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_LO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more than the literal 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, they facilitate program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nstant is used in multiple places, its value need only be set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, they formally establish that a value should not change, avoiding inadvertent errors by other program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669400" y="121932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828800" y="24177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itiv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eight primitive data types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of them represent integ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f them represent floating point numb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m represents charact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ne of them represents boolean val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eric Primitiv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 between the numeric primitive types is their size and the values they can sto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1113840" y="2575080"/>
            <a:ext cx="7623720" cy="2836800"/>
            <a:chOff x="1113840" y="2575080"/>
            <a:chExt cx="7623720" cy="2836800"/>
          </a:xfrm>
        </p:grpSpPr>
        <p:sp>
          <p:nvSpPr>
            <p:cNvPr id="223" name="Rectangle 5"/>
            <p:cNvSpPr/>
            <p:nvPr/>
          </p:nvSpPr>
          <p:spPr>
            <a:xfrm>
              <a:off x="1113840" y="2575080"/>
              <a:ext cx="109944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Typ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by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h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lo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lo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6"/>
            <p:cNvSpPr/>
            <p:nvPr/>
          </p:nvSpPr>
          <p:spPr>
            <a:xfrm>
              <a:off x="2289960" y="2575080"/>
              <a:ext cx="117396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8 b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16 b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32 b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64 b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32 b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64 b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3771360" y="2575080"/>
              <a:ext cx="4966200" cy="28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Min 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-1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-32,76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-2,147,483,6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&lt; -9 x 10</a:t>
              </a:r>
              <a:r>
                <a:rPr b="1" lang="en-US" sz="2000" spc="-1" strike="noStrike" baseline="30000">
                  <a:solidFill>
                    <a:srgbClr val="008000"/>
                  </a:solidFill>
                  <a:latin typeface="Arial Unicode MS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+/- 3.4 x 10</a:t>
              </a:r>
              <a:r>
                <a:rPr b="1" lang="en-US" sz="2000" spc="-1" strike="noStrike" baseline="30000">
                  <a:solidFill>
                    <a:srgbClr val="008000"/>
                  </a:solidFill>
                  <a:latin typeface="Arial Unicode MS"/>
                </a:rPr>
                <a:t>38</a:t>
              </a: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 with 7 significant dig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+/- 1.7 x 10</a:t>
              </a:r>
              <a:r>
                <a:rPr b="1" lang="en-US" sz="2000" spc="-1" strike="noStrike" baseline="30000">
                  <a:solidFill>
                    <a:srgbClr val="008000"/>
                  </a:solidFill>
                  <a:latin typeface="Arial Unicode MS"/>
                </a:rPr>
                <a:t>308</a:t>
              </a: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 with 15 significant dig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8"/>
            <p:cNvSpPr/>
            <p:nvPr/>
          </p:nvSpPr>
          <p:spPr>
            <a:xfrm>
              <a:off x="6020280" y="2575080"/>
              <a:ext cx="186768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Max 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12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32,76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2,147,483,64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&gt; 9 x 10</a:t>
              </a:r>
              <a:r>
                <a:rPr b="1" lang="en-US" sz="2000" spc="-1" strike="noStrike" baseline="30000">
                  <a:solidFill>
                    <a:srgbClr val="008000"/>
                  </a:solidFill>
                  <a:latin typeface="Arial Unicode MS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Footer Placeholder 9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 stores a single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 literals are delimited by single quo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a'   'X'    '7'    '$'    ','    '\n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decla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 topGrade = 'A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 terminator = ';', separator = ' 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difference between a primitive character variable, which holds only one character, and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, which can hold multipl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 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racter 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ordered list of characters, with each character corresponding to a uniqu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 in Java can store any character from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code character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code character set uses sixteen bits per character, allowing for 65,536 uniqu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n international character set, containing symbols and characters from many world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CII character 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lder and smaller than Unicode, but is still quite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CII characters are a subset of the Unicode character set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1163160" y="3429000"/>
            <a:ext cx="6652440" cy="2287080"/>
            <a:chOff x="1163160" y="3429000"/>
            <a:chExt cx="6652440" cy="2287080"/>
          </a:xfrm>
        </p:grpSpPr>
        <p:sp>
          <p:nvSpPr>
            <p:cNvPr id="237" name="Rectangle 5"/>
            <p:cNvSpPr/>
            <p:nvPr/>
          </p:nvSpPr>
          <p:spPr>
            <a:xfrm>
              <a:off x="1163160" y="3429000"/>
              <a:ext cx="29862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uppercase let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lowercase let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punctu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dig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special symbo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control charac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4189320" y="3429000"/>
              <a:ext cx="362628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A, B, C,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a, b, c,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period, semi-colon,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0, 1, 2,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&amp;, |, \,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carriage return, tab, 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Footer Placeholder 7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ing lit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presented by putting double quotes around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This is a string literal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123 Main Stree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X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haracter string is an object in Java, defin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tring literal represent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boole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represents a true or fals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erved word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tr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fal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only valid values for a boolea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 done = fal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 can also be used to represent any two states, such as a light bulb being 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2669400" y="121932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828800" y="2971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mbination of one or more operators and ope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ithmetic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ute numeric results and make use of the arithmetic opera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2820960" y="3124080"/>
            <a:ext cx="2686320" cy="1618560"/>
            <a:chOff x="2820960" y="3124080"/>
            <a:chExt cx="2686320" cy="1618560"/>
          </a:xfrm>
        </p:grpSpPr>
        <p:sp>
          <p:nvSpPr>
            <p:cNvPr id="250" name="Text Box 4"/>
            <p:cNvSpPr/>
            <p:nvPr/>
          </p:nvSpPr>
          <p:spPr>
            <a:xfrm>
              <a:off x="2820960" y="3124080"/>
              <a:ext cx="20095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Add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Subtra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Multipl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Division</a:t>
              </a: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Remain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6"/>
            <p:cNvSpPr/>
            <p:nvPr/>
          </p:nvSpPr>
          <p:spPr>
            <a:xfrm>
              <a:off x="5097960" y="3124080"/>
              <a:ext cx="4093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Footer Placeholder 8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228600" y="495288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ither or both operands are floating point values, then the result is a floating poi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ision and Remai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13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oth operands to the division operator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integers, the result is an integer (the fractional part is discar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2567160" y="2666880"/>
            <a:ext cx="3230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4 /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equals 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 / 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equals 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1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228600" y="3809880"/>
            <a:ext cx="8686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mainder operator (%) returns the remainder after dividing the first operand by the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2567160" y="4876920"/>
            <a:ext cx="3230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4 %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equals 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 % 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equals 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5"/>
          <p:cNvSpPr/>
          <p:nvPr/>
        </p:nvSpPr>
        <p:spPr>
          <a:xfrm>
            <a:off x="304920" y="120636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results of the following expres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1908000" y="1987560"/>
            <a:ext cx="248796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2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 /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/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/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/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.0 /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2 %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%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%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304920" y="120636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results of the following expres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1908000" y="1987560"/>
            <a:ext cx="248796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2 /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2.0 /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/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/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/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.0 /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2 %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%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%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4582080" y="1987560"/>
            <a:ext cx="12780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 6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 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=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rator Prece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s can be combined into larger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sult  =  total + count / max - offse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s have a well-defined precedence which determines the order in which they are 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, division, and remainder are evaluated before addition, subtraction, and string concate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thmetic operators with the same precedence are evaluated from left to right, but parentheses can be used to force the evaluatio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992160" y="25146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+ b + c + d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4802040" y="25146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+ b * c - d /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2592720" y="373392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/ (b + c) - d %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2465280" y="495288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/ (b * (c + (d - e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2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4"/>
          <p:cNvSpPr/>
          <p:nvPr/>
        </p:nvSpPr>
        <p:spPr>
          <a:xfrm>
            <a:off x="380880" y="1143000"/>
            <a:ext cx="861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order are the operators evaluated in the following expres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992160" y="25146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+ b + c + d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4802040" y="25146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+ b * c - d /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592720" y="373392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/ (b + c) - d %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2465280" y="495288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/ (b * (c + (d - e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25"/>
          <p:cNvGrpSpPr/>
          <p:nvPr/>
        </p:nvGrpSpPr>
        <p:grpSpPr>
          <a:xfrm>
            <a:off x="1295280" y="2895480"/>
            <a:ext cx="5943600" cy="2743200"/>
            <a:chOff x="1295280" y="2895480"/>
            <a:chExt cx="5943600" cy="2743200"/>
          </a:xfrm>
        </p:grpSpPr>
        <p:sp>
          <p:nvSpPr>
            <p:cNvPr id="285" name="AutoShape 5"/>
            <p:cNvSpPr/>
            <p:nvPr/>
          </p:nvSpPr>
          <p:spPr>
            <a:xfrm>
              <a:off x="1295280" y="289548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6"/>
            <p:cNvSpPr/>
            <p:nvPr/>
          </p:nvSpPr>
          <p:spPr>
            <a:xfrm>
              <a:off x="3124080" y="289548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7"/>
            <p:cNvSpPr/>
            <p:nvPr/>
          </p:nvSpPr>
          <p:spPr>
            <a:xfrm>
              <a:off x="2514240" y="289548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8"/>
            <p:cNvSpPr/>
            <p:nvPr/>
          </p:nvSpPr>
          <p:spPr>
            <a:xfrm>
              <a:off x="1904760" y="289548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5105160" y="289548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11"/>
            <p:cNvSpPr/>
            <p:nvPr/>
          </p:nvSpPr>
          <p:spPr>
            <a:xfrm>
              <a:off x="6934320" y="289548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12"/>
            <p:cNvSpPr/>
            <p:nvPr/>
          </p:nvSpPr>
          <p:spPr>
            <a:xfrm>
              <a:off x="6324480" y="289548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13"/>
            <p:cNvSpPr/>
            <p:nvPr/>
          </p:nvSpPr>
          <p:spPr>
            <a:xfrm>
              <a:off x="5715000" y="289548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15"/>
            <p:cNvSpPr/>
            <p:nvPr/>
          </p:nvSpPr>
          <p:spPr>
            <a:xfrm>
              <a:off x="2895480" y="411480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6"/>
            <p:cNvSpPr/>
            <p:nvPr/>
          </p:nvSpPr>
          <p:spPr>
            <a:xfrm>
              <a:off x="5029200" y="411480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17"/>
            <p:cNvSpPr/>
            <p:nvPr/>
          </p:nvSpPr>
          <p:spPr>
            <a:xfrm>
              <a:off x="4419360" y="411480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18"/>
            <p:cNvSpPr/>
            <p:nvPr/>
          </p:nvSpPr>
          <p:spPr>
            <a:xfrm>
              <a:off x="3657600" y="411480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20"/>
            <p:cNvSpPr/>
            <p:nvPr/>
          </p:nvSpPr>
          <p:spPr>
            <a:xfrm>
              <a:off x="2768400" y="533412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21"/>
            <p:cNvSpPr/>
            <p:nvPr/>
          </p:nvSpPr>
          <p:spPr>
            <a:xfrm>
              <a:off x="5054400" y="533412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22"/>
            <p:cNvSpPr/>
            <p:nvPr/>
          </p:nvSpPr>
          <p:spPr>
            <a:xfrm>
              <a:off x="4317840" y="533412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3555720" y="5334120"/>
              <a:ext cx="304560" cy="30456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Footer Placeholder 2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4"/>
          <p:cNvSpPr/>
          <p:nvPr/>
        </p:nvSpPr>
        <p:spPr>
          <a:xfrm>
            <a:off x="380880" y="1143000"/>
            <a:ext cx="861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order are the operators evaluated in the following expres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ression Tr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aluation of a particular expression can be shown us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ression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rators lower in the tree have higher precedence for that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68480" y="373392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+ (b – c) /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5"/>
          <p:cNvGrpSpPr/>
          <p:nvPr/>
        </p:nvGrpSpPr>
        <p:grpSpPr>
          <a:xfrm>
            <a:off x="4648320" y="3429000"/>
            <a:ext cx="2286000" cy="2819160"/>
            <a:chOff x="4648320" y="3429000"/>
            <a:chExt cx="2286000" cy="2819160"/>
          </a:xfrm>
        </p:grpSpPr>
        <p:sp>
          <p:nvSpPr>
            <p:cNvPr id="307" name="Oval 5"/>
            <p:cNvSpPr/>
            <p:nvPr/>
          </p:nvSpPr>
          <p:spPr>
            <a:xfrm>
              <a:off x="4648320" y="4267080"/>
              <a:ext cx="457200" cy="457200"/>
            </a:xfrm>
            <a:prstGeom prst="ellipse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6"/>
            <p:cNvSpPr/>
            <p:nvPr/>
          </p:nvSpPr>
          <p:spPr>
            <a:xfrm>
              <a:off x="4710240" y="42973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7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8"/>
            <p:cNvSpPr/>
            <p:nvPr/>
          </p:nvSpPr>
          <p:spPr>
            <a:xfrm>
              <a:off x="5319720" y="3458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9"/>
            <p:cNvSpPr/>
            <p:nvPr/>
          </p:nvSpPr>
          <p:spPr>
            <a:xfrm>
              <a:off x="6019920" y="4190760"/>
              <a:ext cx="457200" cy="457200"/>
            </a:xfrm>
            <a:prstGeom prst="ellipse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0"/>
            <p:cNvSpPr/>
            <p:nvPr/>
          </p:nvSpPr>
          <p:spPr>
            <a:xfrm>
              <a:off x="6081840" y="4221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1"/>
            <p:cNvSpPr/>
            <p:nvPr/>
          </p:nvSpPr>
          <p:spPr>
            <a:xfrm>
              <a:off x="5562720" y="4952880"/>
              <a:ext cx="457200" cy="457200"/>
            </a:xfrm>
            <a:prstGeom prst="ellipse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2"/>
            <p:cNvSpPr/>
            <p:nvPr/>
          </p:nvSpPr>
          <p:spPr>
            <a:xfrm>
              <a:off x="5624640" y="4983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3"/>
            <p:cNvSpPr/>
            <p:nvPr/>
          </p:nvSpPr>
          <p:spPr>
            <a:xfrm>
              <a:off x="6477120" y="4952880"/>
              <a:ext cx="457200" cy="457200"/>
            </a:xfrm>
            <a:prstGeom prst="ellipse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14"/>
            <p:cNvSpPr/>
            <p:nvPr/>
          </p:nvSpPr>
          <p:spPr>
            <a:xfrm>
              <a:off x="6539040" y="49831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"/>
            <p:cNvSpPr/>
            <p:nvPr/>
          </p:nvSpPr>
          <p:spPr>
            <a:xfrm>
              <a:off x="5181480" y="5790960"/>
              <a:ext cx="457200" cy="457200"/>
            </a:xfrm>
            <a:prstGeom prst="ellipse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6"/>
            <p:cNvSpPr/>
            <p:nvPr/>
          </p:nvSpPr>
          <p:spPr>
            <a:xfrm>
              <a:off x="5243760" y="5821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7"/>
            <p:cNvSpPr/>
            <p:nvPr/>
          </p:nvSpPr>
          <p:spPr>
            <a:xfrm>
              <a:off x="5867280" y="5790960"/>
              <a:ext cx="457200" cy="457200"/>
            </a:xfrm>
            <a:prstGeom prst="ellipse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8"/>
            <p:cNvSpPr/>
            <p:nvPr/>
          </p:nvSpPr>
          <p:spPr>
            <a:xfrm>
              <a:off x="5929560" y="5821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9"/>
            <p:cNvSpPr/>
            <p:nvPr/>
          </p:nvSpPr>
          <p:spPr>
            <a:xfrm flipV="1">
              <a:off x="4876920" y="3886200"/>
              <a:ext cx="6094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0"/>
            <p:cNvSpPr/>
            <p:nvPr/>
          </p:nvSpPr>
          <p:spPr>
            <a:xfrm flipH="1" flipV="1">
              <a:off x="5486040" y="3886200"/>
              <a:ext cx="7621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1"/>
            <p:cNvSpPr/>
            <p:nvPr/>
          </p:nvSpPr>
          <p:spPr>
            <a:xfrm flipV="1">
              <a:off x="5791320" y="4647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2"/>
            <p:cNvSpPr/>
            <p:nvPr/>
          </p:nvSpPr>
          <p:spPr>
            <a:xfrm flipH="1" flipV="1">
              <a:off x="6248520" y="4647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3"/>
            <p:cNvSpPr/>
            <p:nvPr/>
          </p:nvSpPr>
          <p:spPr>
            <a:xfrm flipV="1">
              <a:off x="5410080" y="541008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4"/>
            <p:cNvSpPr/>
            <p:nvPr/>
          </p:nvSpPr>
          <p:spPr>
            <a:xfrm flipH="1" flipV="1">
              <a:off x="5791320" y="541008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Footer Placeholder 2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intln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nco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am from Chapter 1, we invoked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to print a character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represents a destination (the monitor screen) to which we can send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11640" y="4038480"/>
            <a:ext cx="78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 ("Whatever you are, be a good one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779400" y="4571640"/>
            <a:ext cx="1295640" cy="834480"/>
            <a:chOff x="779400" y="4571640"/>
            <a:chExt cx="1295640" cy="834480"/>
          </a:xfrm>
        </p:grpSpPr>
        <p:sp>
          <p:nvSpPr>
            <p:cNvPr id="100" name="Text Box 6"/>
            <p:cNvSpPr/>
            <p:nvPr/>
          </p:nvSpPr>
          <p:spPr>
            <a:xfrm>
              <a:off x="915120" y="5007240"/>
              <a:ext cx="96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7"/>
            <p:cNvSpPr/>
            <p:nvPr/>
          </p:nvSpPr>
          <p:spPr>
            <a:xfrm rot="16200000">
              <a:off x="1312920" y="4038120"/>
              <a:ext cx="228600" cy="12956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8"/>
          <p:cNvGrpSpPr/>
          <p:nvPr/>
        </p:nvGrpSpPr>
        <p:grpSpPr>
          <a:xfrm>
            <a:off x="2099880" y="4495680"/>
            <a:ext cx="1177560" cy="1215000"/>
            <a:chOff x="2099880" y="4495680"/>
            <a:chExt cx="1177560" cy="1215000"/>
          </a:xfrm>
        </p:grpSpPr>
        <p:sp>
          <p:nvSpPr>
            <p:cNvPr id="103" name="Text Box 9"/>
            <p:cNvSpPr/>
            <p:nvPr/>
          </p:nvSpPr>
          <p:spPr>
            <a:xfrm>
              <a:off x="2099880" y="5006880"/>
              <a:ext cx="117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meth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0"/>
            <p:cNvSpPr/>
            <p:nvPr/>
          </p:nvSpPr>
          <p:spPr>
            <a:xfrm flipV="1">
              <a:off x="2684520" y="4495680"/>
              <a:ext cx="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1"/>
          <p:cNvGrpSpPr/>
          <p:nvPr/>
        </p:nvGrpSpPr>
        <p:grpSpPr>
          <a:xfrm>
            <a:off x="3362760" y="4648320"/>
            <a:ext cx="4798440" cy="1215000"/>
            <a:chOff x="3362760" y="4648320"/>
            <a:chExt cx="4798440" cy="1215000"/>
          </a:xfrm>
        </p:grpSpPr>
        <p:sp>
          <p:nvSpPr>
            <p:cNvPr id="106" name="Text Box 12"/>
            <p:cNvSpPr/>
            <p:nvPr/>
          </p:nvSpPr>
          <p:spPr>
            <a:xfrm>
              <a:off x="3362760" y="5159520"/>
              <a:ext cx="479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information provided to the meth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(parameter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 rot="16200000">
              <a:off x="5580360" y="2590920"/>
              <a:ext cx="380880" cy="44956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117000 h 4495680"/>
                <a:gd name="textAreaBottom" fmla="*/ 4378680 h 449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55"/>
                  </a:lnTo>
                  <a:cubicBezTo>
                    <a:pt x="10800" y="9755"/>
                    <a:pt x="5400" y="10655"/>
                    <a:pt x="0" y="10655"/>
                  </a:cubicBezTo>
                  <a:cubicBezTo>
                    <a:pt x="5400" y="10655"/>
                    <a:pt x="10800" y="11555"/>
                    <a:pt x="10800" y="1245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Footer Placeholder 1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 Revisi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operator has a lower precedence than the arithmetic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2719800" y="2347920"/>
            <a:ext cx="499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First the expression on the right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side of the = operator is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1478520" y="5241960"/>
            <a:ext cx="408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Then the result is stored i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variable on the left h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640880" y="3260880"/>
            <a:ext cx="53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swer  =  sum / 4 + MAX * lowe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7"/>
          <p:cNvSpPr/>
          <p:nvPr/>
        </p:nvSpPr>
        <p:spPr>
          <a:xfrm>
            <a:off x="3924360" y="371808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8"/>
          <p:cNvSpPr/>
          <p:nvPr/>
        </p:nvSpPr>
        <p:spPr>
          <a:xfrm>
            <a:off x="2857680" y="3718080"/>
            <a:ext cx="304560" cy="304560"/>
          </a:xfrm>
          <a:prstGeom prst="roundRect">
            <a:avLst>
              <a:gd name="adj" fmla="val 16667"/>
            </a:avLst>
          </a:pr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9"/>
          <p:cNvSpPr/>
          <p:nvPr/>
        </p:nvSpPr>
        <p:spPr>
          <a:xfrm>
            <a:off x="4533840" y="371808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5448240" y="3718080"/>
            <a:ext cx="304920" cy="304560"/>
          </a:xfrm>
          <a:prstGeom prst="roundRect">
            <a:avLst>
              <a:gd name="adj" fmla="val 16667"/>
            </a:avLst>
          </a:prstGeom>
          <a:solidFill>
            <a:srgbClr val="f5e98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1"/>
          <p:cNvSpPr/>
          <p:nvPr/>
        </p:nvSpPr>
        <p:spPr>
          <a:xfrm flipV="1" rot="16200000">
            <a:off x="4953240" y="2917800"/>
            <a:ext cx="304560" cy="3276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0"/>
                </a:lnTo>
                <a:cubicBezTo>
                  <a:pt x="10800" y="9910"/>
                  <a:pt x="5400" y="10810"/>
                  <a:pt x="0" y="10810"/>
                </a:cubicBezTo>
                <a:cubicBezTo>
                  <a:pt x="5400" y="10810"/>
                  <a:pt x="10800" y="11710"/>
                  <a:pt x="10800" y="126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12"/>
          <p:cNvCxnSpPr>
            <a:stCxn id="337" idx="1"/>
          </p:cNvCxnSpPr>
          <p:nvPr/>
        </p:nvCxnSpPr>
        <p:spPr>
          <a:xfrm flipV="1" rot="16200000">
            <a:off x="3401640" y="3020400"/>
            <a:ext cx="397440" cy="3010680"/>
          </a:xfrm>
          <a:prstGeom prst="bentConnector4">
            <a:avLst>
              <a:gd name="adj1" fmla="val -53581"/>
              <a:gd name="adj2" fmla="val 100000"/>
            </a:avLst>
          </a:prstGeom>
          <a:ln w="31680">
            <a:solidFill>
              <a:srgbClr val="ff3300"/>
            </a:solidFill>
            <a:miter/>
            <a:tailEnd len="med" type="triangle" w="lg"/>
          </a:ln>
        </p:spPr>
      </p:cxnSp>
      <p:sp>
        <p:nvSpPr>
          <p:cNvPr id="339" name="Footer Placeholder 1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 Revisi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13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ght and left hand sides of an assignment statement can contain the sam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3100680" y="2362320"/>
            <a:ext cx="33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First, one is added to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original value of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604880" y="4722840"/>
            <a:ext cx="535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Then the result is stored back into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(overwriting the original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2440080" y="319896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  =  count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7"/>
          <p:cNvSpPr/>
          <p:nvPr/>
        </p:nvSpPr>
        <p:spPr>
          <a:xfrm flipV="1" rot="16200000">
            <a:off x="4609800" y="3312360"/>
            <a:ext cx="304920" cy="1295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0"/>
                </a:lnTo>
                <a:cubicBezTo>
                  <a:pt x="10800" y="9910"/>
                  <a:pt x="5400" y="10810"/>
                  <a:pt x="0" y="10810"/>
                </a:cubicBezTo>
                <a:cubicBezTo>
                  <a:pt x="5400" y="10810"/>
                  <a:pt x="10800" y="11710"/>
                  <a:pt x="10800" y="126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AutoShape 8"/>
          <p:cNvCxnSpPr>
            <a:stCxn id="345" idx="1"/>
          </p:cNvCxnSpPr>
          <p:nvPr/>
        </p:nvCxnSpPr>
        <p:spPr>
          <a:xfrm flipV="1" rot="16200000">
            <a:off x="3644280" y="3010680"/>
            <a:ext cx="320040" cy="1916640"/>
          </a:xfrm>
          <a:prstGeom prst="bentConnector4">
            <a:avLst>
              <a:gd name="adj1" fmla="val -66666"/>
              <a:gd name="adj2" fmla="val 99567"/>
            </a:avLst>
          </a:prstGeom>
          <a:ln w="31680">
            <a:solidFill>
              <a:srgbClr val="ff3300"/>
            </a:solidFill>
            <a:miter/>
            <a:tailEnd len="med" type="triangle" w="lg"/>
          </a:ln>
        </p:spPr>
      </p:cxnSp>
      <p:sp>
        <p:nvSpPr>
          <p:cNvPr id="347" name="Footer Placeholder 9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ment and Dec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rement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decrement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perators use only one ope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functionally equivalen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unt = count +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ment and Dec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rement and decrement operators can be applied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stfix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unt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fix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+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used as part of a larger expression, the two forms can have different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eir subtleties, the increment and decrement operators should be used wi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 Op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we perform an operation on a variable, and then store the result back into that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provid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ignment oper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implify tha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 += cou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quivalen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 = num + cou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 Op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assignment operators in Java, including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4"/>
          <p:cNvGrpSpPr/>
          <p:nvPr/>
        </p:nvGrpSpPr>
        <p:grpSpPr>
          <a:xfrm>
            <a:off x="1155600" y="2286000"/>
            <a:ext cx="6235560" cy="3011400"/>
            <a:chOff x="1155600" y="2286000"/>
            <a:chExt cx="6235560" cy="3011400"/>
          </a:xfrm>
        </p:grpSpPr>
        <p:sp>
          <p:nvSpPr>
            <p:cNvPr id="360" name="Rectangle 5"/>
            <p:cNvSpPr/>
            <p:nvPr/>
          </p:nvSpPr>
          <p:spPr>
            <a:xfrm>
              <a:off x="1155600" y="2286000"/>
              <a:ext cx="1689120" cy="30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Oper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+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-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*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/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6"/>
            <p:cNvSpPr/>
            <p:nvPr/>
          </p:nvSpPr>
          <p:spPr>
            <a:xfrm>
              <a:off x="3062160" y="2286000"/>
              <a:ext cx="1689120" cy="30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Exa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+=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-=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*=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/=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%=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"/>
            <p:cNvSpPr/>
            <p:nvPr/>
          </p:nvSpPr>
          <p:spPr>
            <a:xfrm>
              <a:off x="5140080" y="2286000"/>
              <a:ext cx="2251080" cy="30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Equivalent 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= x +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= x -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= x *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= x /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= x % 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Footer Placeholder 8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 Op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ght hand side of an assignment operator can be a complex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tire right-hand expression is evaluated first, then the result is combined with the original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sult /= (total-MIN) % nu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quivalen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sult = result / ((total-MIN) % nu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 Oper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havior of some assignment operators depends on the types of the ope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operands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or are strings, the assignment operator performs string concate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havior of an assignment operator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always consistent with the behavior of the corresponding operator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2669400" y="121932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4"/>
          <p:cNvSpPr/>
          <p:nvPr/>
        </p:nvSpPr>
        <p:spPr>
          <a:xfrm>
            <a:off x="1828800" y="35053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 is convenient to convert data from one typ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in a particular situation we may want to treat an integer as a floating poi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nversions do not change the type of a variable or the value that's stored in it – they only convert a value as part of a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int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provides another service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is similar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, except that it does not advance to the nex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anything printed after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will appear on the same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1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wn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idening conver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afest because they tend to go from a small data type to a larger one (such a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arrowing conver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lose information because they tend to go from a large data type to a smaller one (such a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ava, data conversions can occur in three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fig02_05.tif"/>
          <p:cNvPicPr/>
          <p:nvPr/>
        </p:nvPicPr>
        <p:blipFill>
          <a:blip r:embed="rId1"/>
          <a:stretch/>
        </p:blipFill>
        <p:spPr>
          <a:xfrm>
            <a:off x="304920" y="2286000"/>
            <a:ext cx="4267080" cy="2405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fig02_06.tif"/>
          <p:cNvPicPr/>
          <p:nvPr/>
        </p:nvPicPr>
        <p:blipFill>
          <a:blip r:embed="rId2"/>
          <a:stretch/>
        </p:blipFill>
        <p:spPr>
          <a:xfrm>
            <a:off x="4800600" y="2286000"/>
            <a:ext cx="3733920" cy="2408400"/>
          </a:xfrm>
          <a:prstGeom prst="rect">
            <a:avLst/>
          </a:prstGeom>
          <a:ln w="0">
            <a:noFill/>
          </a:ln>
        </p:spPr>
      </p:pic>
      <p:sp>
        <p:nvSpPr>
          <p:cNvPr id="384" name="TextBox 6"/>
          <p:cNvSpPr/>
          <p:nvPr/>
        </p:nvSpPr>
        <p:spPr>
          <a:xfrm>
            <a:off x="1159560" y="182880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ning Conv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5351760" y="182880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rrowing Conv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 Conver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ignment conver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s when a value of one type is assigned to a variable of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dollars = 2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 money = dolla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widening conversions can happen via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e value or typ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lla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d no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ppens automatically when operators in expressions convert their ope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count = 1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uble sum = 490.2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sult = sum / cou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verted to a floating point value to perform the division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most powerful, and dangerous, technique for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widening and narrowing conversions can be accomplished by explicitly casting 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ast, the type is put in parentheses in front of the value being con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total = 5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at result = (float) total / 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the cast, the fractional part of the answer would be l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2669400" y="121932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1828800" y="40766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 generally need input on which to op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provides convenient methods for reading input values of various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can be set up to read input from various sources, including the user typing values on the key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board input is represent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In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line create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that reads from the keyboar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 scan = new Scanner (System.i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or creat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created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can be used to invoke various input methods,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 = scan.nextLin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In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par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library, and must be imported into a program to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reads all of the input until the end of the line is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tails of object creation and class libraries are discussed further in Chapter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609480" y="45720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Echo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he nextLine method of the Scanner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o read a string from the u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ads a character string from the user and prints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messag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Enter a line of text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ou entered: \"" + message + "\"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648360" y="762120"/>
            <a:ext cx="7940520" cy="47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untdow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difference between print and printl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two lines of output representing a rocket count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Three...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Two...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One...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Zero...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Liftoff!"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ars on first output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Houston, we have a problem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609480" y="45720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Echo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he nextLine method of the Scanner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o read a string from the u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ads a character string from the user and prints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messag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Enter a line of text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 = scan.nextLin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ou entered: \"" + message + "\"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5"/>
          <p:cNvSpPr/>
          <p:nvPr/>
        </p:nvSpPr>
        <p:spPr>
          <a:xfrm>
            <a:off x="1403280" y="228600"/>
            <a:ext cx="6462360" cy="1707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line of tex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You want fries with t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ou entered: "You want fries with that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put Tok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 specified otherwis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ite s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sed to separate the elements (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ke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f the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space includes space characters, tabs, new lin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reads the next input token and returns it as a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such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d data of particula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asMileage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5"/>
          <p:cNvSpPr/>
          <p:nvPr/>
        </p:nvSpPr>
        <p:spPr>
          <a:xfrm>
            <a:off x="609480" y="69840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asMileag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he Scanner class to read numeric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asMile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alculates fuel efficiency based on values entered by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u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l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allons, mp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609480" y="1600200"/>
            <a:ext cx="7910640" cy="30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number of miles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les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gallons of fuel used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allons = scan.nextDoubl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pg = miles / gallon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iles Per Gallon: " + mp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5"/>
          <p:cNvSpPr/>
          <p:nvPr/>
        </p:nvSpPr>
        <p:spPr>
          <a:xfrm>
            <a:off x="609480" y="1600200"/>
            <a:ext cx="7910640" cy="30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number of miles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les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gallons of fuel used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allons = scan.nextDoubl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pg = miles / gallon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iles Per Gallon: " + mp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3"/>
          <p:cNvSpPr/>
          <p:nvPr/>
        </p:nvSpPr>
        <p:spPr>
          <a:xfrm>
            <a:off x="1662120" y="1295280"/>
            <a:ext cx="5852880" cy="1707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number of miles: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gallons of fuel used: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1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iles Per Gallon: 29.285714285714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2669400" y="121932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4"/>
          <p:cNvSpPr/>
          <p:nvPr/>
        </p:nvSpPr>
        <p:spPr>
          <a:xfrm>
            <a:off x="1828800" y="46069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 to Graph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st few sections of each chapter of the textbook focus on graphics and graphical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icture or drawing must be digitized for storage on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icture is made up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x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icture elements), and each pixel is stored sepa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ixels used to represent a pictur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cture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ixels that can be displayed by a monitor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nitor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ing 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28600" y="10666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gitized picture with a small portion magn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6"/>
          <p:cNvGrpSpPr/>
          <p:nvPr/>
        </p:nvGrpSpPr>
        <p:grpSpPr>
          <a:xfrm>
            <a:off x="685800" y="1981080"/>
            <a:ext cx="7696080" cy="3581640"/>
            <a:chOff x="685800" y="1981080"/>
            <a:chExt cx="7696080" cy="3581640"/>
          </a:xfrm>
        </p:grpSpPr>
        <p:sp>
          <p:nvSpPr>
            <p:cNvPr id="434" name="TextBox 5"/>
            <p:cNvSpPr/>
            <p:nvPr/>
          </p:nvSpPr>
          <p:spPr>
            <a:xfrm>
              <a:off x="685800" y="1981080"/>
              <a:ext cx="7696080" cy="358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5" name="Picture 5" descr="fig02_08.tif"/>
            <p:cNvPicPr/>
            <p:nvPr/>
          </p:nvPicPr>
          <p:blipFill>
            <a:blip r:embed="rId1"/>
            <a:stretch/>
          </p:blipFill>
          <p:spPr>
            <a:xfrm>
              <a:off x="954720" y="2189520"/>
              <a:ext cx="7157880" cy="3164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l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rdinate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ixel can be identified using a two-dimensional coordina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referring to a pixel in a Java program, we use a coordinate system with the origin in the top-left co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4"/>
          <p:cNvGrpSpPr/>
          <p:nvPr/>
        </p:nvGrpSpPr>
        <p:grpSpPr>
          <a:xfrm>
            <a:off x="2210400" y="3672000"/>
            <a:ext cx="4797720" cy="2654280"/>
            <a:chOff x="2210400" y="3672000"/>
            <a:chExt cx="4797720" cy="2654280"/>
          </a:xfrm>
        </p:grpSpPr>
        <p:sp>
          <p:nvSpPr>
            <p:cNvPr id="439" name="Line 5"/>
            <p:cNvSpPr/>
            <p:nvPr/>
          </p:nvSpPr>
          <p:spPr>
            <a:xfrm>
              <a:off x="2819160" y="4052880"/>
              <a:ext cx="0" cy="21337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6"/>
            <p:cNvSpPr/>
            <p:nvPr/>
          </p:nvSpPr>
          <p:spPr>
            <a:xfrm>
              <a:off x="2819160" y="4052880"/>
              <a:ext cx="4114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7"/>
            <p:cNvSpPr/>
            <p:nvPr/>
          </p:nvSpPr>
          <p:spPr>
            <a:xfrm>
              <a:off x="2363760" y="5958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8"/>
            <p:cNvSpPr/>
            <p:nvPr/>
          </p:nvSpPr>
          <p:spPr>
            <a:xfrm>
              <a:off x="6662880" y="3672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9"/>
            <p:cNvSpPr/>
            <p:nvPr/>
          </p:nvSpPr>
          <p:spPr>
            <a:xfrm>
              <a:off x="2210400" y="3672000"/>
              <a:ext cx="67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0, 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Line 10"/>
          <p:cNvSpPr/>
          <p:nvPr/>
        </p:nvSpPr>
        <p:spPr>
          <a:xfrm>
            <a:off x="2819520" y="513396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1"/>
          <p:cNvSpPr/>
          <p:nvPr/>
        </p:nvSpPr>
        <p:spPr>
          <a:xfrm>
            <a:off x="5181480" y="406728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4877640" y="51339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12, 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3"/>
          <p:cNvSpPr/>
          <p:nvPr/>
        </p:nvSpPr>
        <p:spPr>
          <a:xfrm>
            <a:off x="4884480" y="36100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4"/>
          <p:cNvSpPr/>
          <p:nvPr/>
        </p:nvSpPr>
        <p:spPr>
          <a:xfrm>
            <a:off x="2363760" y="4943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ooter Placeholder 1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ing Co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ack and white picture could be stored using one bit per pixel (0 = white and 1 = bla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lored picture requires more information; there are several techniques for representing co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olor can be represented as a mixture of the three additive primary colors Red, Green, and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olor is represented by three numbers between 0 and 255 that collectively are called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GB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648360" y="762120"/>
            <a:ext cx="7940520" cy="47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untdow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difference between print and printl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two lines of output representing a rocket count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Three...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Two...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One...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Zero...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Liftoff!"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ars on first output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Houston, we have a problem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1478880" y="533520"/>
            <a:ext cx="6310080" cy="1402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ree... Two... One... Zero... Liftof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uston, we have a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lor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lor in a Java program is represented as an object created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also contains several predefined colors, including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8"/>
          <p:cNvGrpSpPr/>
          <p:nvPr/>
        </p:nvGrpSpPr>
        <p:grpSpPr>
          <a:xfrm>
            <a:off x="2058840" y="3352680"/>
            <a:ext cx="4644720" cy="2450520"/>
            <a:chOff x="2058840" y="3352680"/>
            <a:chExt cx="4644720" cy="2450520"/>
          </a:xfrm>
        </p:grpSpPr>
        <p:sp>
          <p:nvSpPr>
            <p:cNvPr id="456" name="Text Box 5"/>
            <p:cNvSpPr/>
            <p:nvPr/>
          </p:nvSpPr>
          <p:spPr>
            <a:xfrm>
              <a:off x="2058840" y="3352680"/>
              <a:ext cx="2009520" cy="24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 Unicode MS"/>
                </a:rPr>
                <a:t>Obj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lor.bl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lor.b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lor.cy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lor.oran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lor.wh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lor.yel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6"/>
            <p:cNvSpPr/>
            <p:nvPr/>
          </p:nvSpPr>
          <p:spPr>
            <a:xfrm>
              <a:off x="4541760" y="3352680"/>
              <a:ext cx="2161800" cy="24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 Unicode MS"/>
                </a:rPr>
                <a:t>RGB 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, 0,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, 0, 25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0, 255, 25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255, 200,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255, 255, 25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255, 255,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Footer Placeholder 7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2669400" y="121932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4"/>
          <p:cNvSpPr/>
          <p:nvPr/>
        </p:nvSpPr>
        <p:spPr>
          <a:xfrm>
            <a:off x="1828800" y="51577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av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stand-alone program wit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(like the ones we've seen so f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av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ogram that is intended to be transported over the Web and executed using a web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plet also can be executed using the appletviewer tool of the Java SD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plet doesn't hav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, there are several special methods that serve specific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is executed automatically whenever the applet’s contents ar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accepts a parameter that is an objec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define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aphics con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which we can draw shapes and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has several methods for drawing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reate an applet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tend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pp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JApp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par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kes us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heri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is explored in more detail in Chap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instein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609480" y="45720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Einstei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a basic appl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Appl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instein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pp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raws a quotation by Albert Einstein among some shap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 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Rect (50, 50, 40, 40)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Rect (60, 80, 225, 30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ta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Oval (75, 65, 20, 20)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Line (35, 60, 100, 12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String ("Out of clutter, find simplicity.", 110, 7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String ("-- Albert Einstein", 130, 1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5"/>
          <p:cNvSpPr/>
          <p:nvPr/>
        </p:nvSpPr>
        <p:spPr>
          <a:xfrm>
            <a:off x="609480" y="45720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Einstei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a basic appl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Appl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instein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pp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raws a quotation by Albert Einstein among some shap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 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Rect (50, 50, 40, 40)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Rect (60, 80, 225, 30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ta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Oval (75, 65, 20, 20)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Line (35, 60, 100, 12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String ("Out of clutter, find simplicity.", 110, 7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String ("-- Albert Einstein", 130, 1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7"/>
          <p:cNvGrpSpPr/>
          <p:nvPr/>
        </p:nvGrpSpPr>
        <p:grpSpPr>
          <a:xfrm>
            <a:off x="1981080" y="345960"/>
            <a:ext cx="5181840" cy="3566520"/>
            <a:chOff x="1981080" y="345960"/>
            <a:chExt cx="5181840" cy="3566520"/>
          </a:xfrm>
        </p:grpSpPr>
        <p:sp>
          <p:nvSpPr>
            <p:cNvPr id="477" name="TextBox 4"/>
            <p:cNvSpPr/>
            <p:nvPr/>
          </p:nvSpPr>
          <p:spPr>
            <a:xfrm>
              <a:off x="1981080" y="345960"/>
              <a:ext cx="5181840" cy="3566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8" name="Picture 6" descr="Screen shot 2011-02-12 at 7.05.21 PM.png"/>
            <p:cNvPicPr/>
            <p:nvPr/>
          </p:nvPicPr>
          <p:blipFill>
            <a:blip r:embed="rId1"/>
            <a:stretch/>
          </p:blipFill>
          <p:spPr>
            <a:xfrm>
              <a:off x="2361960" y="752400"/>
              <a:ext cx="4420080" cy="2718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TML applet T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575640" y="3733920"/>
            <a:ext cx="7998840" cy="2562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itle&gt;The Einstein Applet&lt;/tit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applet code="Einstein.class" width=350 height=175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apple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28600" y="1066680"/>
            <a:ext cx="8686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plet is embedded into an HTML file using a tag that references the bytecode file of the app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ytecode version of the program is transported across the web and executed by a Java interpreter that is part of the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2669400" y="1219320"/>
            <a:ext cx="3990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bles and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4"/>
          <p:cNvSpPr/>
          <p:nvPr/>
        </p:nvSpPr>
        <p:spPr>
          <a:xfrm>
            <a:off x="1828800" y="5715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explore some of the method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that draw shapes in more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ape can be filled or unfilled, depending on which method is invo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 parameters specify coordinates and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s with curves, like an oval, are usually drawn by specifying the shape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unding 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c can be thought of as a section of an 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ing Concate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ing concatenation 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+) is used to append one string to the end of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Peanut butter " + "and jelly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also be used to append a number to a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ing literal cannot be broken across two lines in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cts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ing a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3"/>
          <p:cNvGrpSpPr/>
          <p:nvPr/>
        </p:nvGrpSpPr>
        <p:grpSpPr>
          <a:xfrm>
            <a:off x="941760" y="1397160"/>
            <a:ext cx="6906960" cy="3479760"/>
            <a:chOff x="941760" y="1397160"/>
            <a:chExt cx="6906960" cy="3479760"/>
          </a:xfrm>
        </p:grpSpPr>
        <p:sp>
          <p:nvSpPr>
            <p:cNvPr id="492" name="Line 4"/>
            <p:cNvSpPr/>
            <p:nvPr/>
          </p:nvSpPr>
          <p:spPr>
            <a:xfrm>
              <a:off x="1295640" y="1752480"/>
              <a:ext cx="65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5"/>
            <p:cNvSpPr/>
            <p:nvPr/>
          </p:nvSpPr>
          <p:spPr>
            <a:xfrm>
              <a:off x="1295640" y="1752480"/>
              <a:ext cx="0" cy="312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6"/>
            <p:cNvSpPr/>
            <p:nvPr/>
          </p:nvSpPr>
          <p:spPr>
            <a:xfrm>
              <a:off x="7317000" y="139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7"/>
            <p:cNvSpPr/>
            <p:nvPr/>
          </p:nvSpPr>
          <p:spPr>
            <a:xfrm>
              <a:off x="941760" y="4419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Text Box 8"/>
          <p:cNvSpPr/>
          <p:nvPr/>
        </p:nvSpPr>
        <p:spPr>
          <a:xfrm>
            <a:off x="1550880" y="1371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865080" y="217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1752480" y="1752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1"/>
          <p:cNvSpPr/>
          <p:nvPr/>
        </p:nvSpPr>
        <p:spPr>
          <a:xfrm>
            <a:off x="1295280" y="2362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5221080" y="1371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878040" y="33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4"/>
          <p:cNvSpPr/>
          <p:nvPr/>
        </p:nvSpPr>
        <p:spPr>
          <a:xfrm>
            <a:off x="5486400" y="1752480"/>
            <a:ext cx="0" cy="1752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5"/>
          <p:cNvSpPr/>
          <p:nvPr/>
        </p:nvSpPr>
        <p:spPr>
          <a:xfrm>
            <a:off x="1295280" y="350532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6"/>
          <p:cNvGrpSpPr/>
          <p:nvPr/>
        </p:nvGrpSpPr>
        <p:grpSpPr>
          <a:xfrm>
            <a:off x="2288520" y="4648320"/>
            <a:ext cx="5057640" cy="1161000"/>
            <a:chOff x="2288520" y="4648320"/>
            <a:chExt cx="5057640" cy="1161000"/>
          </a:xfrm>
        </p:grpSpPr>
        <p:sp>
          <p:nvSpPr>
            <p:cNvPr id="505" name="Text Box 17"/>
            <p:cNvSpPr/>
            <p:nvPr/>
          </p:nvSpPr>
          <p:spPr>
            <a:xfrm>
              <a:off x="2288520" y="4648320"/>
              <a:ext cx="505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page.drawLine (10, 20, 150, 45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2288520" y="5410440"/>
              <a:ext cx="505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page.drawLine (150, 45, 10, 20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9"/>
            <p:cNvSpPr/>
            <p:nvPr/>
          </p:nvSpPr>
          <p:spPr>
            <a:xfrm>
              <a:off x="4551120" y="503100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Line 20"/>
          <p:cNvSpPr/>
          <p:nvPr/>
        </p:nvSpPr>
        <p:spPr>
          <a:xfrm>
            <a:off x="1752480" y="2362320"/>
            <a:ext cx="3733920" cy="1143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21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ing a Rect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3"/>
          <p:cNvGrpSpPr/>
          <p:nvPr/>
        </p:nvGrpSpPr>
        <p:grpSpPr>
          <a:xfrm>
            <a:off x="916200" y="1457280"/>
            <a:ext cx="6906960" cy="3479760"/>
            <a:chOff x="916200" y="1457280"/>
            <a:chExt cx="6906960" cy="3479760"/>
          </a:xfrm>
        </p:grpSpPr>
        <p:sp>
          <p:nvSpPr>
            <p:cNvPr id="512" name="Line 4"/>
            <p:cNvSpPr/>
            <p:nvPr/>
          </p:nvSpPr>
          <p:spPr>
            <a:xfrm>
              <a:off x="1270080" y="1812600"/>
              <a:ext cx="65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5"/>
            <p:cNvSpPr/>
            <p:nvPr/>
          </p:nvSpPr>
          <p:spPr>
            <a:xfrm>
              <a:off x="1270080" y="1812600"/>
              <a:ext cx="0" cy="312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6"/>
            <p:cNvSpPr/>
            <p:nvPr/>
          </p:nvSpPr>
          <p:spPr>
            <a:xfrm>
              <a:off x="7291440" y="1457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7"/>
            <p:cNvSpPr/>
            <p:nvPr/>
          </p:nvSpPr>
          <p:spPr>
            <a:xfrm>
              <a:off x="916200" y="44798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8"/>
          <p:cNvSpPr/>
          <p:nvPr/>
        </p:nvSpPr>
        <p:spPr>
          <a:xfrm>
            <a:off x="2154960" y="508968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ge.drawRect (50, 20, 100, 4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2440080" y="1432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839880" y="2232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1"/>
          <p:cNvSpPr/>
          <p:nvPr/>
        </p:nvSpPr>
        <p:spPr>
          <a:xfrm>
            <a:off x="2641680" y="18129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2"/>
          <p:cNvSpPr/>
          <p:nvPr/>
        </p:nvSpPr>
        <p:spPr>
          <a:xfrm>
            <a:off x="1270080" y="24224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3"/>
          <p:cNvSpPr/>
          <p:nvPr/>
        </p:nvSpPr>
        <p:spPr>
          <a:xfrm>
            <a:off x="2641680" y="2422440"/>
            <a:ext cx="2590560" cy="9907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14"/>
          <p:cNvGrpSpPr/>
          <p:nvPr/>
        </p:nvGrpSpPr>
        <p:grpSpPr>
          <a:xfrm>
            <a:off x="2641680" y="3603600"/>
            <a:ext cx="2590560" cy="368280"/>
            <a:chOff x="2641680" y="3603600"/>
            <a:chExt cx="2590560" cy="368280"/>
          </a:xfrm>
        </p:grpSpPr>
        <p:sp>
          <p:nvSpPr>
            <p:cNvPr id="523" name="Line 15"/>
            <p:cNvSpPr/>
            <p:nvPr/>
          </p:nvSpPr>
          <p:spPr>
            <a:xfrm>
              <a:off x="2641680" y="3641400"/>
              <a:ext cx="259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16"/>
            <p:cNvSpPr/>
            <p:nvPr/>
          </p:nvSpPr>
          <p:spPr>
            <a:xfrm>
              <a:off x="3706560" y="360360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Group 17"/>
          <p:cNvGrpSpPr/>
          <p:nvPr/>
        </p:nvGrpSpPr>
        <p:grpSpPr>
          <a:xfrm>
            <a:off x="5460840" y="2422440"/>
            <a:ext cx="411120" cy="990360"/>
            <a:chOff x="5460840" y="2422440"/>
            <a:chExt cx="411120" cy="990360"/>
          </a:xfrm>
        </p:grpSpPr>
        <p:sp>
          <p:nvSpPr>
            <p:cNvPr id="526" name="Line 18"/>
            <p:cNvSpPr/>
            <p:nvPr/>
          </p:nvSpPr>
          <p:spPr>
            <a:xfrm>
              <a:off x="5460840" y="242244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462640" y="2765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Footer Placeholder 20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1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ing an O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916200" y="1397160"/>
            <a:ext cx="6906960" cy="3479760"/>
            <a:chOff x="916200" y="1397160"/>
            <a:chExt cx="6906960" cy="3479760"/>
          </a:xfrm>
        </p:grpSpPr>
        <p:sp>
          <p:nvSpPr>
            <p:cNvPr id="531" name="Line 4"/>
            <p:cNvSpPr/>
            <p:nvPr/>
          </p:nvSpPr>
          <p:spPr>
            <a:xfrm>
              <a:off x="1270080" y="1752480"/>
              <a:ext cx="655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5"/>
            <p:cNvSpPr/>
            <p:nvPr/>
          </p:nvSpPr>
          <p:spPr>
            <a:xfrm>
              <a:off x="1270080" y="1752480"/>
              <a:ext cx="0" cy="312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6"/>
            <p:cNvSpPr/>
            <p:nvPr/>
          </p:nvSpPr>
          <p:spPr>
            <a:xfrm>
              <a:off x="7291440" y="1397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7"/>
            <p:cNvSpPr/>
            <p:nvPr/>
          </p:nvSpPr>
          <p:spPr>
            <a:xfrm>
              <a:off x="916200" y="4419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Text Box 8"/>
          <p:cNvSpPr/>
          <p:nvPr/>
        </p:nvSpPr>
        <p:spPr>
          <a:xfrm>
            <a:off x="2079000" y="529596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ge.drawOval (175, 20, 50, 8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4599000" y="13716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839880" y="217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1"/>
          <p:cNvSpPr/>
          <p:nvPr/>
        </p:nvSpPr>
        <p:spPr>
          <a:xfrm>
            <a:off x="4851360" y="1752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2"/>
          <p:cNvSpPr/>
          <p:nvPr/>
        </p:nvSpPr>
        <p:spPr>
          <a:xfrm>
            <a:off x="1270080" y="236232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3"/>
          <p:cNvSpPr/>
          <p:nvPr/>
        </p:nvSpPr>
        <p:spPr>
          <a:xfrm>
            <a:off x="4851360" y="2362320"/>
            <a:ext cx="1600200" cy="190476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14"/>
          <p:cNvGrpSpPr/>
          <p:nvPr/>
        </p:nvGrpSpPr>
        <p:grpSpPr>
          <a:xfrm>
            <a:off x="4851360" y="4381560"/>
            <a:ext cx="1600200" cy="368280"/>
            <a:chOff x="4851360" y="4381560"/>
            <a:chExt cx="1600200" cy="368280"/>
          </a:xfrm>
        </p:grpSpPr>
        <p:sp>
          <p:nvSpPr>
            <p:cNvPr id="542" name="Line 15"/>
            <p:cNvSpPr/>
            <p:nvPr/>
          </p:nvSpPr>
          <p:spPr>
            <a:xfrm>
              <a:off x="4851360" y="44197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6"/>
            <p:cNvSpPr/>
            <p:nvPr/>
          </p:nvSpPr>
          <p:spPr>
            <a:xfrm>
              <a:off x="5510160" y="4381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17"/>
          <p:cNvGrpSpPr/>
          <p:nvPr/>
        </p:nvGrpSpPr>
        <p:grpSpPr>
          <a:xfrm>
            <a:off x="6603840" y="2362320"/>
            <a:ext cx="411120" cy="1904760"/>
            <a:chOff x="6603840" y="2362320"/>
            <a:chExt cx="411120" cy="1904760"/>
          </a:xfrm>
        </p:grpSpPr>
        <p:sp>
          <p:nvSpPr>
            <p:cNvPr id="545" name="Line 18"/>
            <p:cNvSpPr/>
            <p:nvPr/>
          </p:nvSpPr>
          <p:spPr>
            <a:xfrm>
              <a:off x="6603840" y="2362320"/>
              <a:ext cx="0" cy="19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19"/>
            <p:cNvSpPr/>
            <p:nvPr/>
          </p:nvSpPr>
          <p:spPr>
            <a:xfrm>
              <a:off x="6605640" y="31748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Oval 20"/>
          <p:cNvSpPr/>
          <p:nvPr/>
        </p:nvSpPr>
        <p:spPr>
          <a:xfrm>
            <a:off x="4851360" y="2362320"/>
            <a:ext cx="1600200" cy="19047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2547360" y="3659040"/>
            <a:ext cx="140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bo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rect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2"/>
          <p:cNvSpPr/>
          <p:nvPr/>
        </p:nvSpPr>
        <p:spPr>
          <a:xfrm>
            <a:off x="3936960" y="4038480"/>
            <a:ext cx="8380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ooter Placeholder 2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ing an Ar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228600" y="10666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rc is defined by an oval, a start angle, and an arc ang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762120" y="2209680"/>
            <a:ext cx="7696080" cy="3886200"/>
            <a:chOff x="762120" y="2209680"/>
            <a:chExt cx="7696080" cy="3886200"/>
          </a:xfrm>
        </p:grpSpPr>
        <p:sp>
          <p:nvSpPr>
            <p:cNvPr id="555" name="TextBox 5"/>
            <p:cNvSpPr/>
            <p:nvPr/>
          </p:nvSpPr>
          <p:spPr>
            <a:xfrm>
              <a:off x="762120" y="2209680"/>
              <a:ext cx="7696080" cy="388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5" descr="fig02_14.tif"/>
            <p:cNvPicPr/>
            <p:nvPr/>
          </p:nvPicPr>
          <p:blipFill>
            <a:blip r:embed="rId1"/>
            <a:stretch/>
          </p:blipFill>
          <p:spPr>
            <a:xfrm>
              <a:off x="1066680" y="2361960"/>
              <a:ext cx="7010280" cy="3594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l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ing Sha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drawing surface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ckground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graphics context has a curr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eground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can be set explici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man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5"/>
          <p:cNvSpPr/>
          <p:nvPr/>
        </p:nvSpPr>
        <p:spPr>
          <a:xfrm>
            <a:off x="609480" y="152280"/>
            <a:ext cx="7910640" cy="624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nowma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basic drawing methods and the use of co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Appl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man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pp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raws a snowm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 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ID = 15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P = 5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cya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b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Rect (0, 175, 300, 5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yellow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-40, -40, 80, 8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5"/>
          <p:cNvSpPr/>
          <p:nvPr/>
        </p:nvSpPr>
        <p:spPr>
          <a:xfrm>
            <a:off x="609480" y="82404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wh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MID-20, TOP, 40, 40);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MID-35, TOP+35, 70, 50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per tor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MID-50, TOP+80, 100, 6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wer tor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bl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MID-10, TOP+10, 5, 5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eft ey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MID+5, TOP+10, 5, 5)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ight ey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Arc (MID-10, TOP+20, 20, 10, 190, 160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m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Line (MID-25, TOP+60, MID-50, TOP+4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eft a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Line (MID+25, TOP+60, MID+55, TOP+6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ight a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Line (MID-20, TOP+5, MID+20, TOP+5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rim of 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Rect (MID-15, TOP-20, 30, 25);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p of 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"/>
          <p:cNvSpPr/>
          <p:nvPr/>
        </p:nvSpPr>
        <p:spPr>
          <a:xfrm>
            <a:off x="609480" y="82404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wh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MID-20, TOP, 40, 40);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MID-35, TOP+35, 70, 50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pper tor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MID-50, TOP+80, 100, 6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wer tor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bl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MID-10, TOP+10, 5, 5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eft ey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MID+5, TOP+10, 5, 5)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ight ey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Arc (MID-10, TOP+20, 20, 10, 190, 160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m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Line (MID-25, TOP+60, MID-50, TOP+4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eft a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Line (MID+25, TOP+60, MID+55, TOP+6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ight a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Line (MID-20, TOP+5, MID+20, TOP+5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rim of 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Rect (MID-15, TOP-20, 30, 25);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p of 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5"/>
          <p:cNvGrpSpPr/>
          <p:nvPr/>
        </p:nvGrpSpPr>
        <p:grpSpPr>
          <a:xfrm>
            <a:off x="2133720" y="609480"/>
            <a:ext cx="4952880" cy="3933720"/>
            <a:chOff x="2133720" y="609480"/>
            <a:chExt cx="4952880" cy="3933720"/>
          </a:xfrm>
        </p:grpSpPr>
        <p:sp>
          <p:nvSpPr>
            <p:cNvPr id="567" name="TextBox 3"/>
            <p:cNvSpPr/>
            <p:nvPr/>
          </p:nvSpPr>
          <p:spPr>
            <a:xfrm>
              <a:off x="2133720" y="609480"/>
              <a:ext cx="4952880" cy="3933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" name="Picture 4" descr="Screen shot 2011-02-12 at 6.54.50 PM.png"/>
            <p:cNvPicPr/>
            <p:nvPr/>
          </p:nvPicPr>
          <p:blipFill>
            <a:blip r:embed="rId1"/>
            <a:stretch/>
          </p:blipFill>
          <p:spPr>
            <a:xfrm>
              <a:off x="2719800" y="914040"/>
              <a:ext cx="3809880" cy="3340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 focu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laration and use of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ons and operator prece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ing input from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pp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23:13:06Z</dcterms:created>
  <dc:creator>usnidem</dc:creator>
  <dc:description/>
  <dc:language>en-US</dc:language>
  <cp:lastModifiedBy>Noreen Elliott</cp:lastModifiedBy>
  <dcterms:modified xsi:type="dcterms:W3CDTF">2013-08-12T20:17:00Z</dcterms:modified>
  <cp:revision>22</cp:revision>
  <dc:subject/>
  <dc:title>Chapter #, Title</dc:title>
</cp:coreProperties>
</file>